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62654"/>
        <c:axId val="64853210"/>
      </c:barChart>
      <c:catAx>
        <c:axId val="94462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53210"/>
        <c:crosses val="autoZero"/>
        <c:auto val="1"/>
        <c:lblAlgn val="ctr"/>
        <c:lblOffset val="100"/>
        <c:noMultiLvlLbl val="0"/>
      </c:catAx>
      <c:valAx>
        <c:axId val="64853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62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668-B3DE-43D3-B361-39C4E10E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16-9950-48BB-9895-429EE65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9F4-2FB1-4252-A0AA-4A901FBC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294-DA8B-4FCB-95F8-028F8AED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3AA-872C-4649-ACB4-49A4AEE8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9E0-FC23-43B2-A808-72F7A55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ECC-7DD4-4F66-9CE3-4B03C79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4B5-EA15-4325-80A2-36048FA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83C-5324-45C4-ACB0-D1328A5F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635-5B51-4FBF-BEB6-243FFDB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46F-A8EE-451D-80CF-F8526AA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D1B-040E-434A-8BF9-9329973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01D7F-B1F4-4616-9FAC-3F857F665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