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11648"/>
        <c:axId val="63732182"/>
      </c:barChart>
      <c:catAx>
        <c:axId val="17311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32182"/>
        <c:crosses val="autoZero"/>
        <c:auto val="1"/>
        <c:lblAlgn val="ctr"/>
        <c:lblOffset val="100"/>
        <c:noMultiLvlLbl val="0"/>
      </c:catAx>
      <c:valAx>
        <c:axId val="63732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11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C4E-4AA0-4D81-A472-403FAAE4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046-208D-4DBE-8C54-99F3C986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376-C805-4EA1-908E-28FBA673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932-3F23-4B5D-B3E9-D242ADE6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F95-12C1-494F-845E-32D4D1B6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052-76F3-4712-B542-53675F71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47D-A48E-497A-B8EA-9077382B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08A-6A4D-4817-A229-88618A52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AE7-15F0-4A3A-8DE4-E010071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1EA-E9DA-4EBF-8731-8793C31E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886-BCC1-4EEB-BA24-4C29CB8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772-007F-49AF-9623-413638F7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3CBB3-9E19-477D-AF74-115C68C9E3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