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98631"/>
        <c:axId val="59893525"/>
      </c:barChart>
      <c:catAx>
        <c:axId val="91098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93525"/>
        <c:crosses val="autoZero"/>
        <c:auto val="1"/>
        <c:lblAlgn val="ctr"/>
        <c:lblOffset val="100"/>
        <c:noMultiLvlLbl val="0"/>
      </c:catAx>
      <c:valAx>
        <c:axId val="59893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98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92C-DB29-426E-A23C-2868F01E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DDF-1CA2-4025-8752-28A4D477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886-6956-4856-9A6B-E4F164BA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9F9-9D1E-4057-892A-FFB696BB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60E-5D0F-4555-9715-FC92AB12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D84-8881-409D-99BE-B02FFEE9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A34-FCB0-47ED-94CF-5F0D9634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100-0464-4A27-833B-164BCDAF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C02-229C-464F-9477-1677778C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C84-B1E6-4830-B627-9261D137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DAD-EAA0-4BFB-B42B-DD36EB74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A53-FEDF-40A3-8452-897E5E1C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4F645-8771-4B03-9A2B-CD703476CA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