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90578"/>
        <c:axId val="17697761"/>
      </c:barChart>
      <c:catAx>
        <c:axId val="50090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97761"/>
        <c:crosses val="autoZero"/>
        <c:auto val="1"/>
        <c:lblAlgn val="ctr"/>
        <c:lblOffset val="100"/>
        <c:noMultiLvlLbl val="0"/>
      </c:catAx>
      <c:valAx>
        <c:axId val="17697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90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C6B-E1B4-4515-B1B2-5AB7A7E7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85C6-9E06-40A8-A14C-E983E593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A00-FBAC-4DFF-9023-6DFEBA8D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07D-3947-471D-B343-7D324D04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DCA-93FD-45E9-8038-235BBBA7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308-0B5E-4101-B27C-442F7446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B3F-5039-4ABA-BEA0-4903E1D9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C17-DE16-4034-ACF3-666827E8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8EA-F2A9-4B97-AA06-94CB3555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BF3-0F76-4A20-8691-F58880DC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47A-B929-4E85-B4B0-E6733A2B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DFB-F3C8-4410-9B46-33040207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2E7CC-4F44-4922-AA03-7B0DEAFF94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