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37557"/>
        <c:axId val="79306747"/>
      </c:barChart>
      <c:catAx>
        <c:axId val="99137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06747"/>
        <c:crosses val="autoZero"/>
        <c:auto val="1"/>
        <c:lblAlgn val="ctr"/>
        <c:lblOffset val="100"/>
        <c:noMultiLvlLbl val="0"/>
      </c:catAx>
      <c:valAx>
        <c:axId val="79306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37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2CA-9288-4E8F-99A8-5FF3EB66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DD4-0A41-467E-898F-D620456E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28E3-EF11-4F49-A709-F013E324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D03-2D2F-4CA7-8803-305CB109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5E3-74AE-4329-9BD0-46757846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C51-6359-49B4-847E-5D14B870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90D-B01E-41C3-969D-E7A74BFE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757-D187-493A-87EF-06A2A287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650-4E97-40A9-AFDC-CF803725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2BC-CFA8-40D0-965B-D64ED409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AA4-4B2B-49ED-BE93-F9323754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5D9-3425-45AA-A99E-51EDBF3A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9A9B4-E1DC-4D77-9D9C-94232A102B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