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57152"/>
        <c:axId val="89352711"/>
      </c:barChart>
      <c:catAx>
        <c:axId val="20057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52711"/>
        <c:crosses val="autoZero"/>
        <c:auto val="1"/>
        <c:lblAlgn val="ctr"/>
        <c:lblOffset val="100"/>
        <c:noMultiLvlLbl val="0"/>
      </c:catAx>
      <c:valAx>
        <c:axId val="89352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57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C2F-6179-4D0B-A0AC-F64F4D7F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87D-EDDA-4170-8EAB-800BA54A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3E3-8F0D-4899-AF56-F5D66A0E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F75-ED9A-474D-A8A4-3E2BA3DE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E26-66CD-46A3-B704-74E0D73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300-524B-45DB-828A-04B865F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658-8EA1-4D6F-9615-AF9F49BF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8EC-5E2F-4999-8C19-4A21282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6D8-CD9B-4E6C-990B-E8E0B4A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4FA-5189-4C23-8053-75798DC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BB2-217D-4576-812D-2E3475F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421-EAF7-41A8-8E14-46A630A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6F84-3A31-44A3-AF73-8CEA5DBF0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