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56992"/>
        <c:axId val="66871441"/>
      </c:barChart>
      <c:catAx>
        <c:axId val="63756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71441"/>
        <c:crosses val="autoZero"/>
        <c:auto val="1"/>
        <c:lblAlgn val="ctr"/>
        <c:lblOffset val="100"/>
        <c:noMultiLvlLbl val="0"/>
      </c:catAx>
      <c:valAx>
        <c:axId val="66871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56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2C9-7672-4279-8C69-2639D214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290-6A08-4B92-8B71-51211362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7F1-136D-4261-A133-358E828C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86C-1954-4EED-A033-57172724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1D7-810B-4BCD-96C9-FD9BFBAB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EFF-DDF8-43B9-8B56-E5AB32C8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690-A6AA-4DF3-ADFB-180559CA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BD9-7D62-4E16-A6FE-2D340610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257-1146-491B-BCC1-0BA94DBC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BC0-D3F6-4098-A291-CCDE87C7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14C-DE96-44D7-9F14-F8ECABF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091-4228-4A31-8155-E15462ED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A43AF-8334-4551-BF06-23E83B1683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