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795783"/>
        <c:axId val="10301272"/>
      </c:barChart>
      <c:catAx>
        <c:axId val="247957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01272"/>
        <c:crosses val="autoZero"/>
        <c:auto val="1"/>
        <c:lblAlgn val="ctr"/>
        <c:lblOffset val="100"/>
        <c:noMultiLvlLbl val="0"/>
      </c:catAx>
      <c:valAx>
        <c:axId val="103012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957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AF2A-D6EE-44A6-9685-128232DC5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C902-9C7E-40F3-ABE7-90CF35647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6B0-8BE1-485D-8EB3-C7E489AB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5E4D-E00C-46F0-B253-5460F109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CDAB-E36A-4AF5-A951-CCB8300F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0BC-6EBE-41E0-8C26-02465E05E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1485-8916-4543-9A7A-E3B503D9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A822-5764-4450-917D-6B1564843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3888-7A17-4189-94BE-1FA688566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2EDC-BA30-4A3A-AD3C-500F97D8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1C64-5767-43B5-9283-DB056A17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DF6-F1DA-481C-8EBD-17151DD04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4F8B8-E60F-40BF-9E8D-B15DDD6C1C6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