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35417"/>
        <c:axId val="94852136"/>
      </c:barChart>
      <c:catAx>
        <c:axId val="98435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52136"/>
        <c:crosses val="autoZero"/>
        <c:auto val="1"/>
        <c:lblAlgn val="ctr"/>
        <c:lblOffset val="100"/>
        <c:noMultiLvlLbl val="0"/>
      </c:catAx>
      <c:valAx>
        <c:axId val="94852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35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5AD-85E8-4285-AD4F-C77F98D7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AF6-4142-4368-8CD0-443E3BA3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3C9-03E4-4EFB-B954-852A673F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461-54AE-4FD2-9DB2-43382016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574-429A-442B-A008-6B4981A1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E29-277D-4EDB-9F38-DE43387A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DD6-5CA6-4D6E-9BDA-14B77CB6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83A-274F-42CF-8F13-CC7CE17D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63C-5D66-4969-9A6A-62B880C5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A0A-47A9-46BE-AB5D-5D36C679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3CA-100B-42FD-B0D6-4C9F1469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225-64CD-4F8D-8AFB-B3C76CE7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AB03A-D54C-40FF-97AB-E678F5EAA7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