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67464"/>
        <c:axId val="42000810"/>
      </c:barChart>
      <c:catAx>
        <c:axId val="90467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00810"/>
        <c:crosses val="autoZero"/>
        <c:auto val="1"/>
        <c:lblAlgn val="ctr"/>
        <c:lblOffset val="100"/>
        <c:noMultiLvlLbl val="0"/>
      </c:catAx>
      <c:valAx>
        <c:axId val="42000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67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5ADD-E56C-40CC-BAC5-F2C37642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09DD-AAE7-4E9E-B2E1-2377DDD5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6B8-3AF9-485A-AD78-952039E0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235-4F35-43CE-9C35-775A832E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556-EA80-41A0-9813-6BA6D693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B74-F347-4D69-98A0-28623493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062-5200-4C01-A52E-70AC7F19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9F6-6B7B-480E-BFEB-3892AACF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D86-B546-4C71-92E8-BA113A26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258D-8CB1-4889-B4DC-D28986AE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47F-A6A7-4C42-9DD0-5E88B2AA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3DA2-9D54-46F5-A146-C2DB8911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E9DC2-1FF5-4469-AB1D-683272194B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