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79510"/>
        <c:axId val="24518302"/>
      </c:barChart>
      <c:catAx>
        <c:axId val="25179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8302"/>
        <c:crosses val="autoZero"/>
        <c:auto val="1"/>
        <c:lblAlgn val="ctr"/>
        <c:lblOffset val="100"/>
        <c:noMultiLvlLbl val="0"/>
      </c:catAx>
      <c:valAx>
        <c:axId val="24518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9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C58-27F8-47F1-BF70-F3BE14FF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0D6-EC46-410A-B371-90AA7571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BA4-E486-4225-B2CC-EDB3A69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E1A-C00E-4DD3-B7C6-65D3FD2F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14D-D410-4B9B-A331-0593D9A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A53-751E-4755-A2C7-D7401B5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6D8-E1ED-4A99-8A9E-8ABCD37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7F8-EDC6-48E0-9EA1-41A3F35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F0A-534F-4CD8-BAC4-07354149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98F-11E6-4F5D-9A6B-57E8C6F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F93-68F0-4CF6-9DE5-1440E31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A36-D3AC-4F49-A291-6DF0F6F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BB6ED-D2EE-44C1-AFAC-7F47205CE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