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35359"/>
        <c:axId val="96384259"/>
      </c:barChart>
      <c:catAx>
        <c:axId val="27535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84259"/>
        <c:crosses val="autoZero"/>
        <c:auto val="1"/>
        <c:lblAlgn val="ctr"/>
        <c:lblOffset val="100"/>
        <c:noMultiLvlLbl val="0"/>
      </c:catAx>
      <c:valAx>
        <c:axId val="963842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35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DFC-F339-4203-BC3A-B9A58DD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E7D-0D75-4498-B9C1-7E78CB89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D26-6AEE-426F-BD4A-336FDAED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71F-F212-4AD4-B521-75726751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5294-6A5A-494F-A533-9A7AC242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7FF-C6C7-4C39-81DD-FF46DA3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8B2-CBBA-4BF1-9586-088EBC6F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F6C-F97F-4EA4-9BC7-6D6D67B6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9B1-168E-4C07-A826-8994B27DF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72F-394F-474C-9EE5-752AAA81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D808-411E-4FD3-81F2-37D55109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026-0488-44A9-92D1-3C6BA99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BE7B9-B335-4F24-AF58-0EBFFE52F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