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0321"/>
        <c:axId val="57668470"/>
      </c:barChart>
      <c:catAx>
        <c:axId val="67240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68470"/>
        <c:crosses val="autoZero"/>
        <c:auto val="1"/>
        <c:lblAlgn val="ctr"/>
        <c:lblOffset val="100"/>
        <c:noMultiLvlLbl val="0"/>
      </c:catAx>
      <c:valAx>
        <c:axId val="57668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0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F44-2B07-4395-BD87-B95A1DD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2EA-E076-4117-B1AD-DF17F4C6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19E-24A0-40C6-BD2B-6AF71F4E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D37-89E7-449B-9317-0CB326F4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CE-AEEC-421D-82C3-3836341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6A3-B0AE-45EB-81A3-E0BCC04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659-DB9C-47C9-8015-8D0C352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218-126E-4694-BE0B-359330E9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8DB-981C-4A8F-BC6A-4539B37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C92-A757-4E4B-8A94-27BD9E7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0BA-CDF1-4DDA-B0F0-0BBEEA9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68B-6E4C-43E8-ADA8-E5EE4AA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27DD9-CB0D-4CB3-AB59-072EA2169A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