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95937"/>
        <c:axId val="15105226"/>
      </c:barChart>
      <c:catAx>
        <c:axId val="80595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05226"/>
        <c:crosses val="autoZero"/>
        <c:auto val="1"/>
        <c:lblAlgn val="ctr"/>
        <c:lblOffset val="100"/>
        <c:noMultiLvlLbl val="0"/>
      </c:catAx>
      <c:valAx>
        <c:axId val="15105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95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9DB-E67A-4DEF-A64E-58F06FB8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642-445F-40BD-8D63-FD24C66F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8D2-B845-42B3-B404-71ACDE62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413-E624-44DB-8173-FC772B25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23E-8E48-41ED-915F-E2FB67AC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A69-9992-4CF1-8E1D-C063D6BD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801-CB2E-43C8-9FA2-FBBF872E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EE6-CBCC-41A9-B209-D69D115E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104-9762-4748-ADB3-CE634D9D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689-FF61-4900-9F8A-91F0B547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2D6-B7A4-43B2-A0D7-BFAC5155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9A6-6E4A-4DF7-8085-5F5824AD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4B89A-BD94-47D1-ABEB-D042A22BB1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