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9563"/>
        <c:axId val="66312190"/>
      </c:barChart>
      <c:catAx>
        <c:axId val="60995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2190"/>
        <c:crosses val="autoZero"/>
        <c:auto val="1"/>
        <c:lblAlgn val="ctr"/>
        <c:lblOffset val="100"/>
        <c:noMultiLvlLbl val="0"/>
      </c:catAx>
      <c:valAx>
        <c:axId val="663121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95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3A7D-FFAF-4A85-A560-F0501F94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B2CF-1B88-4298-AB6B-151572FB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513A-8FE3-4E4D-A6D3-8E9119B40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D951-DF16-4CFE-BB07-BF2CA083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0A9-68C7-403A-921C-4D2E35F9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FF5B-A995-4CAA-92D0-5048E1483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F526-E65D-423C-BC31-4A1E9DF9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65F-5957-4FCB-AEAB-DB273AA1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624F-B75B-46BD-A5CC-1D439123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6A7-0EDF-4CEE-B93C-8FF55BA1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5A9A-FC7F-422A-A99B-A59FC5C7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00D4-70E8-4055-BD7B-8C62BA2E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7A315-8EA2-4DC4-A0AE-78ED0DA6E4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