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16979"/>
        <c:axId val="49490051"/>
      </c:barChart>
      <c:catAx>
        <c:axId val="48216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90051"/>
        <c:crosses val="autoZero"/>
        <c:auto val="1"/>
        <c:lblAlgn val="ctr"/>
        <c:lblOffset val="100"/>
        <c:noMultiLvlLbl val="0"/>
      </c:catAx>
      <c:valAx>
        <c:axId val="49490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16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6F0-73EB-433A-B954-F87517B4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D92-A3B3-4839-A60E-C1832BD7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5F3-618D-4183-930B-E5885A84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DDD-211D-4DF8-A283-5F7EDDC2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B34-5516-49DF-8183-3C65B876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A09-BBA3-446D-8362-4612D7D2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25A-1393-4B85-8089-B30D61E9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951-5DEC-4751-A7A4-0B6FE45C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144-D41C-46B9-894E-BE2B00A1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2BE-F476-426D-B752-C4B8578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FF7-C791-4D3F-AFE9-A6C37DE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A8F-62D9-49BF-9B44-8D619945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DAF3D-276A-4398-962A-1E0E9BC3CE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