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29100"/>
        <c:axId val="98921103"/>
      </c:barChart>
      <c:catAx>
        <c:axId val="12329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21103"/>
        <c:crosses val="autoZero"/>
        <c:auto val="1"/>
        <c:lblAlgn val="ctr"/>
        <c:lblOffset val="100"/>
        <c:noMultiLvlLbl val="0"/>
      </c:catAx>
      <c:valAx>
        <c:axId val="98921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29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C5E-0908-41D7-86D9-59F3E892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02E-8C8E-41FB-95AE-88376E0B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1C0-AB5D-43BC-BC75-49513CB4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CCC-3643-4F63-B7A3-DDD8E2BA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A89-994C-4F71-9C75-72B9B5F2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6C3-4AD0-430C-B33A-68FB8617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4FA-A1FB-4D47-97C0-7F4CA221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D25-1945-4855-98EA-DD04B95E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E3D-E7CF-4DBD-8F97-69DE9241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68B-7FCD-40F2-8111-1CB3C342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4E0-F700-497C-ADA3-DB4DA1D7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EC3-184F-4EBF-BE8E-56C19984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7781A-1DA4-445F-B794-CE9760951A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