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28494"/>
        <c:axId val="5623736"/>
      </c:barChart>
      <c:catAx>
        <c:axId val="15728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736"/>
        <c:crosses val="autoZero"/>
        <c:auto val="1"/>
        <c:lblAlgn val="ctr"/>
        <c:lblOffset val="100"/>
        <c:noMultiLvlLbl val="0"/>
      </c:catAx>
      <c:valAx>
        <c:axId val="5623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8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8DE-637F-403B-BB86-479E14C2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419-7AE1-4080-90B8-D16E1CE8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B0B-C8D5-4499-B19B-2C912B95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DD5-38BF-4A72-AC3C-9C24706D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4B2-C07E-4B5D-90D6-27C88FED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BDD-D44D-4A50-B22E-0F64A9C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323-27E3-493B-B2AD-5E30900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0B8-7AD3-44AA-AC2F-32F8DC3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6D5-BC24-4107-8519-17012C6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DEE-1D50-4F15-8E8C-E15A842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336-34A6-4DA6-8619-F407C2A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DB3-0ADF-4004-9DA3-23A3A9A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73FB9-B054-41C9-B4B7-9A572136F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