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26060"/>
        <c:axId val="34530504"/>
      </c:barChart>
      <c:catAx>
        <c:axId val="454260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30504"/>
        <c:crosses val="autoZero"/>
        <c:auto val="1"/>
        <c:lblAlgn val="ctr"/>
        <c:lblOffset val="100"/>
        <c:noMultiLvlLbl val="0"/>
      </c:catAx>
      <c:valAx>
        <c:axId val="345305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260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AC22-B7F0-451F-B07D-9B78694B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3F4E-8642-4E87-A15B-0C4789EE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F41-1918-4683-9DAA-92F6AFACE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A5C-FD01-43DF-9F53-F1C73995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CC63-5AB0-4B58-A148-5EB3520E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5CE9-006C-4BD8-8334-88F3120D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CF3-1268-464C-8D52-F8CC7E01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BDD1-CB93-4720-AE0A-481A1DF7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4B9-9776-4EE0-B06D-01E9EBB3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3F0F-FBE8-4AB5-A380-398362F0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C95-BE25-4D1E-A4E5-87E93E8A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E89A-47A7-45CF-AD0D-86F1060B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21421-1B5D-40D8-92EF-D8287B540C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