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58280"/>
        <c:axId val="91195200"/>
      </c:barChart>
      <c:catAx>
        <c:axId val="88858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95200"/>
        <c:crosses val="autoZero"/>
        <c:auto val="1"/>
        <c:lblAlgn val="ctr"/>
        <c:lblOffset val="100"/>
        <c:noMultiLvlLbl val="0"/>
      </c:catAx>
      <c:valAx>
        <c:axId val="91195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58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841-915F-4FBA-B1FE-9E8861BD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AC0-F790-4162-9D5A-9EED120D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991-A4D6-4304-BB09-AAC3D683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D04-2B96-48AD-99F7-8FB481EF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4CA-E819-4C96-B74B-686176CE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608-3283-4A11-B625-D54E29C9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5F9-9970-40E9-9774-7A2375F0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B34-9AF2-49F5-BCB7-3C02A346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F20-3A37-4DEE-80A8-A3951449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3B8-39E3-45BF-9FC9-1689FD9B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FEA-3A72-4686-B6E9-C25678BC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DD4-DD99-4792-A8ED-1723F654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73F94-8AF2-4932-B4F9-CBD2EFCBB7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