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41444"/>
        <c:axId val="47309768"/>
      </c:barChart>
      <c:catAx>
        <c:axId val="67741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09768"/>
        <c:crosses val="autoZero"/>
        <c:auto val="1"/>
        <c:lblAlgn val="ctr"/>
        <c:lblOffset val="100"/>
        <c:noMultiLvlLbl val="0"/>
      </c:catAx>
      <c:valAx>
        <c:axId val="47309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41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EF0-AEDE-4102-B0C2-9D8B627A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3E6-E3BA-4708-8AF6-5F8EEF90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D8C-DFBC-4A8B-9245-EB8DD3D5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A32-2ED9-4F03-AED0-387477D7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FC38-C0FA-4D5A-BBA8-E1D14CB8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D84-5812-4D9F-8E18-73F75F5B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A7A-C82F-438C-ADE2-42EEC201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6BF-3886-4BB5-8C16-AF027498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9F0F-83C2-4571-B10C-0394CB40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8CE-7D20-409B-9E5B-B4FFEF2A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209-8DF9-4B16-B0BB-22622FBB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F751-270F-41B0-8C58-4C83048E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0AB3F-5B0E-4F01-92A1-8C75F967A1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