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17928"/>
        <c:axId val="72619597"/>
      </c:barChart>
      <c:catAx>
        <c:axId val="41817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19597"/>
        <c:crosses val="autoZero"/>
        <c:auto val="1"/>
        <c:lblAlgn val="ctr"/>
        <c:lblOffset val="100"/>
        <c:noMultiLvlLbl val="0"/>
      </c:catAx>
      <c:valAx>
        <c:axId val="72619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17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571-A74B-4536-B658-5AEDF769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CB9-A715-4FCC-B900-86AE1307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61B-6364-47C4-8F3A-C0699E8C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8EE-FB9D-4027-875E-B353749A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EC4-9966-40C6-A6AD-DDF5435C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D31-A0FB-41E3-AAE7-FAA95642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BB9-37EA-4766-9702-EC360CA9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E4D-E2B3-4000-BD72-ECAD64BB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EEE-1CD9-4B97-B3B8-774A3A35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ADB-1092-478A-BE50-BC4FE0C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3B4-5690-4BE7-BF63-C2560DA5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041-1A29-4D67-9A42-FA0B2E95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9FF04-15BF-4005-9F13-5694189056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