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70345"/>
        <c:axId val="4729983"/>
      </c:barChart>
      <c:catAx>
        <c:axId val="37570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9983"/>
        <c:crosses val="autoZero"/>
        <c:auto val="1"/>
        <c:lblAlgn val="ctr"/>
        <c:lblOffset val="100"/>
        <c:noMultiLvlLbl val="0"/>
      </c:catAx>
      <c:valAx>
        <c:axId val="4729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0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859-A42E-4D38-BC84-0BCE1F3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933-0C65-4D18-A4BF-336FA64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852-C026-4EB0-A1CF-5970A826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7CC-BE2B-4701-90CD-76DA9FFE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640-8C28-42BA-A72A-6FFE964B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E51-4EE8-4627-B445-37159349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8CB-9066-4AF7-9B91-8D85CCC7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038-4669-4565-84D8-DE0FC37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BED-9F91-4704-A016-BF545A1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B23-3674-4508-B162-A9F332B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35A-129C-409F-974D-A738D05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93B-508D-41B8-89E0-7F98640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BCEA1-B40F-45F9-8126-2DECFAF39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