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52978"/>
        <c:axId val="6921761"/>
      </c:barChart>
      <c:catAx>
        <c:axId val="1315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761"/>
        <c:crosses val="autoZero"/>
        <c:auto val="1"/>
        <c:lblAlgn val="ctr"/>
        <c:lblOffset val="100"/>
        <c:noMultiLvlLbl val="0"/>
      </c:catAx>
      <c:valAx>
        <c:axId val="6921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5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81F-B715-4784-B1C7-1591D451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7AC-ADB1-4758-8678-D537A20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1D1-8CD0-4651-938B-4C2A8B3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122-E892-4934-B66D-5DAEE201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1E4-989C-4690-88F1-AD0FF60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69A-C73E-4842-8777-AA4EAEE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917-F671-492D-B84B-A88E84E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C21-7426-49F7-A1CA-69A1250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89A-A061-4A14-A16B-696D4F4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A46-1577-4C8A-9B77-AF71A33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6F8-4289-44B7-B8EA-832812AC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F5D-EB7C-4DB1-BB5D-B216846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9568-F9F7-4E8F-9067-A049D6659C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