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511787"/>
        <c:axId val="21061167"/>
      </c:barChart>
      <c:catAx>
        <c:axId val="435117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061167"/>
        <c:crosses val="autoZero"/>
        <c:auto val="1"/>
        <c:lblAlgn val="ctr"/>
        <c:lblOffset val="100"/>
        <c:noMultiLvlLbl val="0"/>
      </c:catAx>
      <c:valAx>
        <c:axId val="210611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5117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A65D-3BEF-44B0-A617-58245D018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458A-F32B-4079-BF4C-EF38AD559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BD7A-ECE4-40A0-872B-8FC1A7385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A079-990F-423E-8E2C-6FA2F50FF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F32D-C04A-469D-8EB0-A6CBF5449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505A-D667-4CBC-A740-FEBB6F4A1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CD46-F695-4687-A8EF-C7275ACDC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2CD3-BB89-48E8-8FFA-A7E1E6040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266A-94AF-4805-B74B-48290E9B4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0EEA-51FE-4F62-87AA-ACCBF22C1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F875-7D76-4335-91E2-1DC6B7D4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021A-41E1-4319-9C2D-BECF699F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C3B8D1-88F4-4DA7-825D-74F002075C2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