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233652"/>
        <c:axId val="40753791"/>
      </c:barChart>
      <c:catAx>
        <c:axId val="322336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753791"/>
        <c:crosses val="autoZero"/>
        <c:auto val="1"/>
        <c:lblAlgn val="ctr"/>
        <c:lblOffset val="100"/>
        <c:noMultiLvlLbl val="0"/>
      </c:catAx>
      <c:valAx>
        <c:axId val="407537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2336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47CD-99AA-4573-A22A-A40FB12ED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8248-6856-409F-ACE5-8ACE8B1FD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0E05-1ACC-40AE-9FDD-A95C67658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A486-C3BF-44CD-B101-1F2835D40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CEEC-9CF0-4460-A5A3-A6C54FAC1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ABBC-DD90-4206-814A-60109A7A6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A8AC-E70C-477A-B31C-BE59757E4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C063-B27E-47D8-AA1A-E1A394C0F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B3F5-D922-4887-9D81-23CE2567F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7C61-375E-4065-AE81-C75CF7FE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DCFD-9129-4129-B687-8EF54E56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DEDB-42D7-4E32-9019-478C9D28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2C259E-28D3-480E-83B3-23749C184E8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