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2773"/>
        <c:axId val="9139556"/>
      </c:barChart>
      <c:catAx>
        <c:axId val="6212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9556"/>
        <c:crosses val="autoZero"/>
        <c:auto val="1"/>
        <c:lblAlgn val="ctr"/>
        <c:lblOffset val="100"/>
        <c:noMultiLvlLbl val="0"/>
      </c:catAx>
      <c:valAx>
        <c:axId val="9139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2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3BC-367F-40F9-96BA-BB4D1385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5ED-DA02-44A3-B3F3-5F41D9E7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4D3-3D7D-4C7B-BC8F-3BD291D8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8B2-A51C-472B-8CBC-596413A5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150-1CF5-44BE-8C95-8A5E4A48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476-9331-4B4E-8FAB-5F00325B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E24-E546-4EBD-BC8A-992B8965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7EA-77A1-41A9-B541-53FCA57B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3DD-9659-40B9-9566-14270523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D4B-D427-474E-B461-03D43220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E9A-8BC1-48D1-972A-098B1564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FBF-4DF2-4C09-BC7C-6C3AEDC3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EDDF0-A24D-4B7E-B4DD-D872E29A07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