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98083"/>
        <c:axId val="77903996"/>
      </c:barChart>
      <c:catAx>
        <c:axId val="77098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03996"/>
        <c:crosses val="autoZero"/>
        <c:auto val="1"/>
        <c:lblAlgn val="ctr"/>
        <c:lblOffset val="100"/>
        <c:noMultiLvlLbl val="0"/>
      </c:catAx>
      <c:valAx>
        <c:axId val="77903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98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55F-618B-4218-826E-09ECA230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9F3-7C6E-4212-A658-AE7B3E4E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E37-DB0A-4F99-8AEF-5A59E29E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C9E-617E-41DE-9E54-22E5A715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59C-5374-4872-9742-76A058B2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E58-18E8-4DA1-8AAC-16640ACA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7F3-54CC-4B4A-850E-E53D42D6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2AB-18AF-439F-860C-C94CD8E5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06B-661B-4788-8636-58D817F9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203-CC76-49FB-9658-008CFC86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32D-0A69-45E1-8EE5-D75B4EC6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56B-3B02-4465-83B2-43031E8D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2B3D7-E43A-493C-B739-BA49290BD4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