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12501"/>
        <c:axId val="80613737"/>
      </c:barChart>
      <c:catAx>
        <c:axId val="42412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13737"/>
        <c:crosses val="autoZero"/>
        <c:auto val="1"/>
        <c:lblAlgn val="ctr"/>
        <c:lblOffset val="100"/>
        <c:noMultiLvlLbl val="0"/>
      </c:catAx>
      <c:valAx>
        <c:axId val="80613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12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ED8-A103-4F9B-94CD-307912B6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B43-5DB4-430A-ADD1-7DC36F6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A21-0142-4B5D-AB9E-D193AF92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5CD-BB78-49FF-9728-96F20539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AA7-2AB6-4EA2-B79F-D4DAACB6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0BA-EE81-4256-8B89-44EA2EA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324-A22C-4ADB-8E6F-B1C9071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5EE-972F-4EEA-85B2-C43B7F0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5A1-70E3-4334-A2B9-3268FB2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8C6-8FD9-41F4-9CE9-0E58DA6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413-420C-49F0-A1B0-D8BA133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F39-C093-47C9-952E-804FFD3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FE8EF-EAF7-4F53-A4B3-F1C5DDD3B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