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1707562"/>
        <c:axId val="37530322"/>
      </c:barChart>
      <c:catAx>
        <c:axId val="2170756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530322"/>
        <c:crosses val="autoZero"/>
        <c:auto val="1"/>
        <c:lblAlgn val="ctr"/>
        <c:lblOffset val="100"/>
        <c:noMultiLvlLbl val="0"/>
      </c:catAx>
      <c:valAx>
        <c:axId val="3753032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70756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CBED7-A86B-4467-A1CE-E6156A27A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C6FE9-C1B2-4F60-86F2-ACBCD84F3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2EFCE-3D80-491B-8E3D-4AE309C37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BF7B9-3B1C-4BA5-BBB5-E4934D05D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0BC4C-5556-405D-868A-A4AC07DFC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C53A8-C534-41C3-8753-EFFE40E3D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E1083-F4C7-4BEA-96BA-E3CD74A15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81079-EC7D-44B6-8651-B043D355C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2C095-4042-4D33-9F0E-0ACE47B46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E8116-8368-4F92-96BD-B83394D80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6620F-420E-4E3F-9241-74849DA4A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2F510-2E55-45B4-8376-BD43A989B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76CF8A-C5C9-4C4A-9AAD-30C525AF315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