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20788"/>
        <c:axId val="96652172"/>
      </c:barChart>
      <c:catAx>
        <c:axId val="478207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52172"/>
        <c:crosses val="autoZero"/>
        <c:auto val="1"/>
        <c:lblAlgn val="ctr"/>
        <c:lblOffset val="100"/>
        <c:noMultiLvlLbl val="0"/>
      </c:catAx>
      <c:valAx>
        <c:axId val="96652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207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C14-20CB-432F-8C66-CB010195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76D-4EDD-445C-A069-0E8C8BE0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67F-D3CD-4F56-B9C5-E85D9553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9EDE-7088-4F1D-8175-992722BD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D70-6509-47DC-8783-806A6C96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3F3-2E60-4D17-AD85-2DB0FF43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D7D-3013-46C4-8E03-AF0A7E94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F0E-EE85-49C6-B82F-BC3704DA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9C6-E783-4E16-AE2E-295B3868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D0A8-A2DB-4F48-8947-CFF7D5CB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095-843D-435B-95F1-91284573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DE2-1E5D-4BBA-BB2F-1B3D488E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E8C0D-73D1-4B94-BBB3-90B89B1B88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