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70340"/>
        <c:axId val="1436104"/>
      </c:barChart>
      <c:catAx>
        <c:axId val="77070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104"/>
        <c:crosses val="autoZero"/>
        <c:auto val="1"/>
        <c:lblAlgn val="ctr"/>
        <c:lblOffset val="100"/>
        <c:noMultiLvlLbl val="0"/>
      </c:catAx>
      <c:valAx>
        <c:axId val="1436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0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226-398E-4196-BC7B-44FAF999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9D2-547D-4695-874D-22D871D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448-D958-4BAF-8604-6471E6FF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667-B599-4BEB-A08B-BA778E79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F30-5F63-4DE9-99AD-41C86C5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B56-B1E4-4C9C-A8BE-2BA56252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A28-B58F-47F2-ACD8-547FAEEC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7DC-B617-4D0E-95AB-6FF7572B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0DD-63AF-426A-95AD-3D4AB9DE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0DE-A20A-444F-A349-130D587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0C5-6B75-404F-9783-C38410F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C4F-0E86-4BF5-934E-D3214C0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1C653-FEE8-4092-85E3-29248AD444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