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99656"/>
        <c:axId val="5016731"/>
      </c:barChart>
      <c:catAx>
        <c:axId val="10099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6731"/>
        <c:crosses val="autoZero"/>
        <c:auto val="1"/>
        <c:lblAlgn val="ctr"/>
        <c:lblOffset val="100"/>
        <c:noMultiLvlLbl val="0"/>
      </c:catAx>
      <c:valAx>
        <c:axId val="5016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99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364-C505-4638-89E5-540B585B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55F-29EC-4DC0-8C09-50923BDE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FA4-9917-4D2E-BDCF-8116B82E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55B-C216-4ECD-8CE9-DE333285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CC9-4873-4E9B-BE2B-A1255E3D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BF4-9FD0-4CE2-BB25-5E25CD36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AB9-DA58-4F8B-B568-39ABC406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023-5AEF-4BB2-9294-DE880077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BA9-FA86-4FFD-B3F9-A957ADA9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EDA-1C63-436E-9AC6-A4990AA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86C-7F2F-4BFC-8DDD-9D075DA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75E-2E93-4DD3-8B67-10F26B8E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B410D-EC5A-4A54-B4BC-50EDE13935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