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36785"/>
        <c:axId val="14043896"/>
      </c:barChart>
      <c:catAx>
        <c:axId val="699367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43896"/>
        <c:crosses val="autoZero"/>
        <c:auto val="1"/>
        <c:lblAlgn val="ctr"/>
        <c:lblOffset val="100"/>
        <c:noMultiLvlLbl val="0"/>
      </c:catAx>
      <c:valAx>
        <c:axId val="14043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367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5DFA-29B7-492D-A54D-724CB143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B88-7C2C-49C5-AF0E-7E53AD18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D64-8164-446E-B652-5470BF9D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DC7-E233-4AF7-8584-DF806593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655-3170-4523-9630-1D4EA166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4C5-4F8F-4216-B9A4-BFD95321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E0D-A661-47CE-BA49-99C19419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60C-3630-4F81-B0B9-8FA9EBF5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92EF-8B51-4704-9DBF-36A2377C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3E35-3F81-4F26-839C-1925DBB1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7BAA-0766-4F74-93A3-83F41D1F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B920-DBF8-4504-941B-F3525851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9413C-0EA8-48AE-A173-40D4A3F906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