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47924"/>
        <c:axId val="74083427"/>
      </c:barChart>
      <c:catAx>
        <c:axId val="32147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83427"/>
        <c:crosses val="autoZero"/>
        <c:auto val="1"/>
        <c:lblAlgn val="ctr"/>
        <c:lblOffset val="100"/>
        <c:noMultiLvlLbl val="0"/>
      </c:catAx>
      <c:valAx>
        <c:axId val="7408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7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915-F120-456A-8B5C-E821CDBD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ECA-A10D-49B6-816F-979D359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7EF-7914-4AE7-B6D5-F987BB9B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CBA-D429-4E6A-B013-8C53CEAB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6F2-F3C1-42B7-9A14-725597C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68B-2B6D-46FF-BA5B-0D80BB9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C3D-7153-48D7-88EF-89773076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D26-15DA-49B7-ABA0-D5298B21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D56-1DB4-4013-8C72-3EAFED20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137-B154-40A1-8FB5-F780787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077-F1BD-4020-871C-25A8208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389-965B-4E47-8BAC-316F261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1129C-F4CE-488A-B329-A6CE3116B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