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32970"/>
        <c:axId val="79816511"/>
      </c:barChart>
      <c:catAx>
        <c:axId val="49432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16511"/>
        <c:crosses val="autoZero"/>
        <c:auto val="1"/>
        <c:lblAlgn val="ctr"/>
        <c:lblOffset val="100"/>
        <c:noMultiLvlLbl val="0"/>
      </c:catAx>
      <c:valAx>
        <c:axId val="79816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32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72A-ADFD-4D45-91A8-2C2DA2FB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46F-EAEF-404B-AADA-62214F6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80A-5127-4BD2-9AFC-82115308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423-2F41-4A80-A628-540F11B3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3E0-E278-425A-A75A-2C196479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B4E-093D-4418-BB8D-3BFB29B4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96B-2A8C-42ED-BB08-5DD430B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B29-45C8-4850-AFF1-3E4509F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777-DAE4-4238-A261-A6C1FAC1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2D2-0DC5-47DF-A84A-D6B73BC2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F69-54C6-4C99-AA7D-DF450A9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454-4C4A-4244-AB4A-C07E8FA5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5652-1B64-4D20-B27D-50C0EBCAE7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