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02357"/>
        <c:axId val="43077821"/>
      </c:barChart>
      <c:catAx>
        <c:axId val="16102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7821"/>
        <c:crosses val="autoZero"/>
        <c:auto val="1"/>
        <c:lblAlgn val="ctr"/>
        <c:lblOffset val="100"/>
        <c:noMultiLvlLbl val="0"/>
      </c:catAx>
      <c:valAx>
        <c:axId val="43077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02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0DB-F8E6-4970-B329-51D941A6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AC7-91C4-45A0-B4BA-70B80D2E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621-7A20-4D24-8642-1DFD6BB9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CBA-B35A-44C3-B797-FD4D57C7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C8A-8A01-4911-BDF4-D2D50B08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E63-7CAA-4C19-A9B5-FA4B094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9BF-C538-4D74-B9A2-53D2E000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8FF-3B25-4C98-A1B5-E4E187EC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7BB-AB0B-4A09-9853-0831D935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A97-758A-4AB6-9075-6A899540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172-BB47-4808-BB7B-95D59439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1A5-6680-4BB6-A2D4-4C98963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9290F-D2FC-4E71-9536-9EDC937AE6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