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48714"/>
        <c:axId val="10938635"/>
      </c:barChart>
      <c:catAx>
        <c:axId val="62148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38635"/>
        <c:crosses val="autoZero"/>
        <c:auto val="1"/>
        <c:lblAlgn val="ctr"/>
        <c:lblOffset val="100"/>
        <c:noMultiLvlLbl val="0"/>
      </c:catAx>
      <c:valAx>
        <c:axId val="10938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48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101-99C2-44A0-928D-5207DE50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92A-4400-4B78-9F88-451A451C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A86-BA66-4A78-865E-37FFB219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39B-BE6D-43FD-B70E-D9635D31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58E-B038-4B8E-A7CC-3DAFFF34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36C-CA5A-4EF1-A47B-04183C95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A7A-A5B1-49E2-82D9-7FECB431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3C7-478F-4786-9422-77A1E0B7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71C-4918-462F-AB9D-B9A79A00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B90-73AB-403A-AC91-23B14473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C0F-5B34-4BA5-81D3-EAD832DF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9B1-4780-4485-A516-352271B7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D5542-9643-4F54-995F-3B907CE521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