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59586"/>
        <c:axId val="10953802"/>
      </c:barChart>
      <c:catAx>
        <c:axId val="37359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53802"/>
        <c:crosses val="autoZero"/>
        <c:auto val="1"/>
        <c:lblAlgn val="ctr"/>
        <c:lblOffset val="100"/>
        <c:noMultiLvlLbl val="0"/>
      </c:catAx>
      <c:valAx>
        <c:axId val="10953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59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51E-927C-4A2F-AF18-2DFBF225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4F1-DC82-4AFD-A308-831F964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66C-4DFD-48B9-B738-ABD1D2C5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AFF-C184-4AF1-9E03-9B299DF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136-AAF9-4519-B0B8-DB82841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160-7EC5-4527-B4E2-23C23E7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7F1-A961-48FE-94E0-A15C35CA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8E3-1DB0-408C-B969-60071DA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423-3DA4-4823-888D-F0970350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7FA-F7FA-46ED-A72D-203AA12F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621-BEAE-4868-8CA9-BB5C0F3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C6B-C52F-44B3-B061-6AD01685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AF831-35A1-49EB-B764-6C47EBEE74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