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15891"/>
        <c:axId val="17912341"/>
      </c:barChart>
      <c:catAx>
        <c:axId val="34715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12341"/>
        <c:crosses val="autoZero"/>
        <c:auto val="1"/>
        <c:lblAlgn val="ctr"/>
        <c:lblOffset val="100"/>
        <c:noMultiLvlLbl val="0"/>
      </c:catAx>
      <c:valAx>
        <c:axId val="17912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15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F9A-FFEA-4938-9960-72142126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35B-EECF-408F-905D-15A7884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4B4-7F43-47AE-905C-157D8C80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B15-B7D6-48D1-8D7C-227C7743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A25-54ED-441D-81F2-77431CB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765-5DD0-4ECC-83E6-4C4A550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CD1-F83C-40F9-9154-BECF5B0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8FC-0E85-4AC6-8012-3B96AFF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475-ECCA-4B18-8E30-892D8C0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F06-3CA9-43BA-AC14-1F8FF466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796-0A66-4DEE-A7C3-252CE3B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61B-B284-4A2A-8A85-8173EE7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C21B-A888-49ED-ACA3-ADEEF6E563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