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94756"/>
        <c:axId val="66607118"/>
      </c:barChart>
      <c:catAx>
        <c:axId val="64494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07118"/>
        <c:crosses val="autoZero"/>
        <c:auto val="1"/>
        <c:lblAlgn val="ctr"/>
        <c:lblOffset val="100"/>
        <c:noMultiLvlLbl val="0"/>
      </c:catAx>
      <c:valAx>
        <c:axId val="66607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94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242-4B37-47CC-B877-DE6435A1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953-3A92-4C0F-BF6E-8CB7074F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3B5-A332-4AEC-B4A1-340B4606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C62-5651-4475-9A57-679BFE85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035-90FE-4286-A755-20A0F04E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77D-5E93-401E-8159-20C76428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AE3-5469-45E5-8171-031C060A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1F9-66F0-445F-B51A-F1A4EFB7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14E-E9A3-497F-96AC-F6ED9D43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B7C-072F-4696-AB79-67E7CA6A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C84-7CDB-4A53-9AC9-5FE4A4A9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819-BA41-478A-B455-AE2F7437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F4830-9F1B-4B02-9649-603B49A70A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