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46917"/>
        <c:axId val="34761110"/>
      </c:barChart>
      <c:catAx>
        <c:axId val="29746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61110"/>
        <c:crosses val="autoZero"/>
        <c:auto val="1"/>
        <c:lblAlgn val="ctr"/>
        <c:lblOffset val="100"/>
        <c:noMultiLvlLbl val="0"/>
      </c:catAx>
      <c:valAx>
        <c:axId val="34761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46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01E-5B1F-4F21-A522-6691392F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A05-932F-4742-895B-AC3BD246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3D1-E19E-4DF5-990C-98ED8883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C57-94C7-47EB-9891-BABD95FE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6DD-E64C-4BAC-8B16-F237C2C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971-8E0C-46B2-9EAA-F4E7704D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B63-627E-4CD9-A970-0C6A11E4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67E-2115-44DC-9B3A-C555486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7B2-A048-43F8-924A-77DB3C8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E9A-4368-4BF9-B652-694F3A1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95E-42A9-4B13-938F-9D24EBA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BCE-5F1A-47DC-931F-F7FB7D6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EC8A-7A6B-45CC-9236-29619093F0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