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92658"/>
        <c:axId val="82660232"/>
      </c:barChart>
      <c:catAx>
        <c:axId val="28392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60232"/>
        <c:crosses val="autoZero"/>
        <c:auto val="1"/>
        <c:lblAlgn val="ctr"/>
        <c:lblOffset val="100"/>
        <c:noMultiLvlLbl val="0"/>
      </c:catAx>
      <c:valAx>
        <c:axId val="82660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92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ABC-32D7-420C-BABC-0F2982E9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991-98E2-4A19-A2E1-8934D0A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F88-141E-4137-AEA1-B849E315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219-FB5B-4150-98B0-E4AB7404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7F2-D06B-40C5-B328-D9FE7F0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BD7-DE4D-4E69-8F3E-BA8D931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BA4-2223-4520-B1D9-EF986EC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2C8-5C6D-4B33-B6BF-9F8503A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B41-6B59-47AA-BEEB-D8E5CD9D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70C-7EBA-431F-B823-F0C28FA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322-434F-4FEC-B518-A570C95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D24-50E2-44B7-863E-E4D51DF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8E337-9457-498E-A84A-EBA2B3893B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