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38717"/>
        <c:axId val="21667129"/>
      </c:barChart>
      <c:catAx>
        <c:axId val="31638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7129"/>
        <c:crosses val="autoZero"/>
        <c:auto val="1"/>
        <c:lblAlgn val="ctr"/>
        <c:lblOffset val="100"/>
        <c:noMultiLvlLbl val="0"/>
      </c:catAx>
      <c:valAx>
        <c:axId val="21667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8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7F4-B6B0-46B7-9B17-0D4FC506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BFF-0760-463B-A1C8-A592946D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F41-FF88-4E23-9A1A-B50C7E9F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A1E-A0E1-4255-A4ED-9F3AADF2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222-0582-4C4F-9A65-E09A03F2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D37-BFC1-4395-A0B9-9B2065F4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E13-AB07-49AE-8594-4B38E3C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031-30D6-45FD-BAC3-AD69D99B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42D-74A0-48D4-97F2-6CD1F446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897-8A72-4F35-9CFD-60AEE72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80E-223B-4C4B-81D4-CC16F84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861-486C-4570-9FB9-0997BB2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85D00-D76E-48FA-B564-91F9A65DC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