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2170396"/>
        <c:axId val="40694204"/>
      </c:barChart>
      <c:catAx>
        <c:axId val="1217039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694204"/>
        <c:crosses val="autoZero"/>
        <c:auto val="1"/>
        <c:lblAlgn val="ctr"/>
        <c:lblOffset val="100"/>
        <c:noMultiLvlLbl val="0"/>
      </c:catAx>
      <c:valAx>
        <c:axId val="4069420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17039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6D3E-3DE8-4BF8-8F79-CA21D3C8F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BDCB-6786-4FA3-AD19-ED3772C4D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31AB-E793-4AB3-B077-598B46DED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EA85-2F99-4841-8237-C7B1FEFA4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CFA5-9A22-42D7-A411-C4D3CBBDE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BAC2-40AB-4785-A83E-5006CFF61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FA28-1998-4B17-9CC5-83F9EAFC0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15DE-6E9B-4FED-95CA-EB7F76853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77A3-DBA5-4AD5-AF4B-A507CCC30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162B-EED5-4BD3-97D3-274FCBDF1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1302-250F-48EA-8DEA-547A523F6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CB70-1673-4D1A-A823-2D03252C6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4A5D9B-45D8-4895-80A7-7A8EBC64253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