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46365"/>
        <c:axId val="45990174"/>
      </c:barChart>
      <c:catAx>
        <c:axId val="77746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90174"/>
        <c:crosses val="autoZero"/>
        <c:auto val="1"/>
        <c:lblAlgn val="ctr"/>
        <c:lblOffset val="100"/>
        <c:noMultiLvlLbl val="0"/>
      </c:catAx>
      <c:valAx>
        <c:axId val="45990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46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50A-F285-4FD8-95ED-4CF959BD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CCA-AD82-42DB-B0D7-4B1A2641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95B-488B-4D97-B8DB-DAD2E8B7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6EA-FA3C-4175-897B-A7D789C8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29C-15AD-4E68-A36D-4C9102B2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54A-EBF1-44C0-9DC9-2938D63D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AF6A-97D2-487D-BE79-FF325542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530-1E61-4BBE-8E5D-2709D312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B08-06F9-42CE-B4DA-A47F07DD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30CF-C8A6-425D-8CA1-02CB2FB7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73E-A7F1-4DBB-A952-74EAB083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11A-7714-46EE-A11F-A4601CFD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3496B-E0F3-43EF-9661-4C3F37A730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