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02940"/>
        <c:axId val="25436633"/>
      </c:barChart>
      <c:catAx>
        <c:axId val="18402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36633"/>
        <c:crosses val="autoZero"/>
        <c:auto val="1"/>
        <c:lblAlgn val="ctr"/>
        <c:lblOffset val="100"/>
        <c:noMultiLvlLbl val="0"/>
      </c:catAx>
      <c:valAx>
        <c:axId val="2543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02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551-3FDE-43A9-AD3B-2DD9E552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5C8-0FAF-4C04-9B47-B27F5150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CB2-0CF3-4CEC-90E5-EADB653C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9D9-4B2B-4A78-8B02-5301AAE9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815-131A-4601-94A9-2532650E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6B9-35D0-4A38-B967-7EEE509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932-E733-4088-87A5-6FCF512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1E4-C42B-4030-B807-B2A2E54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3F3-9E34-4799-A718-C4B5FE2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82E-0B74-4778-B48D-9ED18124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C32-B45E-4974-A7F3-C80611D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E7E-0CAC-4090-AEA4-76824BB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93076-5380-4AD8-BD0A-7049BB5C4F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