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144524"/>
        <c:axId val="1646823"/>
      </c:barChart>
      <c:catAx>
        <c:axId val="901445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6823"/>
        <c:crosses val="autoZero"/>
        <c:auto val="1"/>
        <c:lblAlgn val="ctr"/>
        <c:lblOffset val="100"/>
        <c:noMultiLvlLbl val="0"/>
      </c:catAx>
      <c:valAx>
        <c:axId val="16468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1445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24EE-FACB-4816-841E-04B4F6C26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3C7B-0985-40B5-95F8-D22A64D5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953A-6747-4216-B455-D4CFDF3DE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1B2A-0DD5-4BF3-BE5F-7FA50914C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6F23-1BF1-424B-9443-D541B2AE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0A53-D2D8-4B28-B24B-6CAB0C4C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390C-FF18-421F-8C6E-21C6EBB0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5B23-DDC0-4CFB-990A-8BC689DA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E405-C552-4FF5-8894-ADDC6390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8545-57B5-4F42-9BA3-A6F4E9D1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008A-A8D5-4317-8EBC-8686AB1F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90CD-B279-4EEA-8C3E-D38771AE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C8705-B215-44C4-A106-31A6A98459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