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362166"/>
        <c:axId val="57319421"/>
      </c:barChart>
      <c:catAx>
        <c:axId val="553621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19421"/>
        <c:crosses val="autoZero"/>
        <c:auto val="1"/>
        <c:lblAlgn val="ctr"/>
        <c:lblOffset val="100"/>
        <c:noMultiLvlLbl val="0"/>
      </c:catAx>
      <c:valAx>
        <c:axId val="573194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621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C347-48B4-4A82-967A-045E8639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F33F-4564-4F73-BFFB-9F0A82A8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D6F4-B272-44C7-9FCF-84862DDE3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CB1E-7318-4D41-BC7F-D42C27213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74D0-6CE0-4F28-A1A6-37312189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DB7A-0A0D-44B5-B609-52C186C6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8887-F1AE-4387-81E4-1356B4AD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65A5-CD60-4C23-9AF8-BD9C2419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CFA1-5BAE-4F97-B44B-658B853C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3624-0A97-49AD-ACFD-593CCD1E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41C0-21FF-4E95-B837-4C6CBC62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F83F-3E3A-49C1-A852-7B2E4976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61570-E29C-4D02-8FBC-6BF329E981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