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64581"/>
        <c:axId val="41052014"/>
      </c:barChart>
      <c:catAx>
        <c:axId val="74164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52014"/>
        <c:crosses val="autoZero"/>
        <c:auto val="1"/>
        <c:lblAlgn val="ctr"/>
        <c:lblOffset val="100"/>
        <c:noMultiLvlLbl val="0"/>
      </c:catAx>
      <c:valAx>
        <c:axId val="41052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64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55F-F301-430C-AD85-4595C48D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32E0-0E41-49EF-9E5C-C79FAE03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A87-46C5-4EF7-AEDC-4D0FF4F9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E20-F3E6-478B-A179-02D360E5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798-6B4B-44FB-A3C3-6BA1772D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C63-7E68-4ADF-A393-0400BCE1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2672-0760-4407-A778-2E763068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C571-8FB2-4E6A-AA88-AB49A5FB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5BD-ABDE-4D7E-9F87-3ACF6D20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729-C26B-4BBA-BAF6-07BF7D20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467-4B4D-4170-90AF-8CEC801E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BD9-9CF1-4E94-8AF5-4EC45ED9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65E90-0FC0-4C5C-AF70-4624BD73D1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